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76480" y="2133360"/>
            <a:ext cx="764352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176480" y="4427640"/>
            <a:ext cx="764352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6480" y="213336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93280" y="213336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6480" y="442764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93280" y="442764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76480" y="2133360"/>
            <a:ext cx="2460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60920" y="2133360"/>
            <a:ext cx="2460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45360" y="2133360"/>
            <a:ext cx="2460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176480" y="4427640"/>
            <a:ext cx="2460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60920" y="4427640"/>
            <a:ext cx="2460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45360" y="4427640"/>
            <a:ext cx="2460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176480" y="2133360"/>
            <a:ext cx="7643520" cy="43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6480" y="2133360"/>
            <a:ext cx="76435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76480" y="2133360"/>
            <a:ext cx="37299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93280" y="2133360"/>
            <a:ext cx="37299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187280" y="155700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6480" y="213336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93280" y="2133360"/>
            <a:ext cx="37299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176480" y="442764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176480" y="2133360"/>
            <a:ext cx="7643520" cy="43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6480" y="2133360"/>
            <a:ext cx="37299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93280" y="213336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093280" y="442764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6480" y="213336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93280" y="213336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76480" y="4427640"/>
            <a:ext cx="764352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6480" y="2133360"/>
            <a:ext cx="764352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176480" y="4427640"/>
            <a:ext cx="764352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76480" y="213336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93280" y="213336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76480" y="442764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093280" y="442764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76480" y="2133360"/>
            <a:ext cx="2460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60920" y="2133360"/>
            <a:ext cx="2460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345360" y="2133360"/>
            <a:ext cx="2460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176480" y="4427640"/>
            <a:ext cx="2460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760920" y="4427640"/>
            <a:ext cx="2460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345360" y="4427640"/>
            <a:ext cx="2460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176480" y="2133360"/>
            <a:ext cx="76435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76480" y="2133360"/>
            <a:ext cx="37299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93280" y="2133360"/>
            <a:ext cx="37299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187280" y="155700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6480" y="213336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93280" y="2133360"/>
            <a:ext cx="37299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176480" y="442764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76480" y="2133360"/>
            <a:ext cx="37299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93280" y="213336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93280" y="442764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76480" y="213336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93280" y="213336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76480" y="4427640"/>
            <a:ext cx="764352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6480" y="2133360"/>
            <a:ext cx="76435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111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111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111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111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111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176480" y="2133360"/>
            <a:ext cx="76435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111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111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111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111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111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image" Target="../media/image4.jpeg"/><Relationship Id="rId1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enior.dubuque.k12.ia.us/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920520"/>
            <a:ext cx="6705720" cy="11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ahoma"/>
              </a:rPr>
              <a:t>Tips, Tricks and Tasty Tidbits: Practical Classroom Applications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CSCTFL 2016</a:t>
            </a:r>
            <a:br>
              <a:rPr sz="3200"/>
            </a:b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762120" y="2133720"/>
            <a:ext cx="45720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tephanie Prine</a:t>
            </a:r>
            <a:endParaRPr b="0" lang="en-US" sz="3600" spc="-1" strike="noStrike">
              <a:solidFill>
                <a:srgbClr val="1111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Spanish Teacher</a:t>
            </a:r>
            <a:endParaRPr b="0" lang="en-US" sz="2400" spc="-1" strike="noStrike">
              <a:solidFill>
                <a:srgbClr val="1111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Dubuque Senior High School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Dubuque, Iowa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81080" y="189000"/>
            <a:ext cx="655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Tricks—Random Grammar Tips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905120" y="837720"/>
            <a:ext cx="69120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Para mi, para ti</a:t>
            </a:r>
            <a:endParaRPr b="0" lang="en-US" sz="24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For irregular affirmative “tú” commands:</a:t>
            </a:r>
            <a:endParaRPr b="0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Ven di sal haz ten ve pon se (Vin Disel has ten weapons)</a:t>
            </a:r>
            <a:endParaRPr b="1" lang="en-US" sz="20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Or Di Haz Ve Pon Sal Se Ten Ven– To the tune of “She’ll Be Comin’ ‘Round the Mountain</a:t>
            </a:r>
            <a:endParaRPr b="1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Move Ud. And Uds. Up in the chart so all the “yous” are together</a:t>
            </a:r>
            <a:endParaRPr b="0" lang="en-US" sz="2400" spc="-1" strike="noStrike">
              <a:solidFill>
                <a:srgbClr val="1111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772080" y="3809880"/>
          <a:ext cx="2971800" cy="2417760"/>
        </p:xfrm>
        <a:graphic>
          <a:graphicData uri="http://schemas.openxmlformats.org/drawingml/2006/table">
            <a:tbl>
              <a:tblPr/>
              <a:tblGrid>
                <a:gridCol w="1253880"/>
                <a:gridCol w="1717920"/>
              </a:tblGrid>
              <a:tr h="835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4747"/>
                          </a:solidFill>
                          <a:latin typeface="Arial"/>
                        </a:rPr>
                        <a:t>Yo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2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4747"/>
                          </a:solidFill>
                          <a:latin typeface="Arial"/>
                        </a:rPr>
                        <a:t>Nosotros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2ff"/>
                    </a:solidFill>
                  </a:tcPr>
                </a:tc>
              </a:tr>
              <a:tr h="668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80078"/>
                          </a:solidFill>
                          <a:latin typeface="Arial"/>
                        </a:rPr>
                        <a:t>Tú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80078"/>
                          </a:solidFill>
                          <a:latin typeface="Arial"/>
                        </a:rPr>
                        <a:t>Vosotros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ff"/>
                    </a:solidFill>
                  </a:tcPr>
                </a:tc>
              </a:tr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80078"/>
                          </a:solidFill>
                          <a:latin typeface="Arial"/>
                        </a:rPr>
                        <a:t>Ud.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4747"/>
                          </a:solidFill>
                          <a:latin typeface="Arial"/>
                        </a:rPr>
                        <a:t>El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4747"/>
                          </a:solidFill>
                          <a:latin typeface="Arial"/>
                        </a:rPr>
                        <a:t>Ella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2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80078"/>
                          </a:solidFill>
                          <a:latin typeface="Arial"/>
                        </a:rPr>
                        <a:t>Uds. 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4747"/>
                          </a:solidFill>
                          <a:latin typeface="Arial"/>
                        </a:rPr>
                        <a:t>Ellos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4747"/>
                          </a:solidFill>
                          <a:latin typeface="Arial"/>
                        </a:rPr>
                        <a:t>Ellas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2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81080" y="189000"/>
            <a:ext cx="655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Tricks—Random Grammar Tips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905120" y="837720"/>
            <a:ext cx="69120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Use dolls or action figures to teach subject pronouns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08000" y="189000"/>
            <a:ext cx="655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Tricks– El preterito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905120" y="837720"/>
            <a:ext cx="69120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Preterit Rhymes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P-Snaps and Ripples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Fantastic Prezi for preterit grouping---by Sarah Ruiz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111111"/>
                </a:solidFill>
                <a:uFillTx/>
                <a:latin typeface="Arial"/>
              </a:rPr>
              <a:t>http://prezi.com/f_wayvxelvwb/?utm_campaign=share&amp;utm_medium=copy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859280" y="404640"/>
            <a:ext cx="38894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2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915920"/>
            <a:ext cx="85914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1111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800000"/>
                </a:solidFill>
                <a:latin typeface="Arial"/>
              </a:rPr>
              <a:t>Tasty Tidbits</a:t>
            </a:r>
            <a:endParaRPr b="0" lang="en-US" sz="96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Kahoot– my newest obession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176480" y="2514240"/>
            <a:ext cx="7643520" cy="40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Arial"/>
              </a:rPr>
              <a:t>Super fun trivia game– it’s like a high tech whiteboard review game</a:t>
            </a:r>
            <a:endParaRPr b="0" lang="en-US" sz="24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Arial"/>
              </a:rPr>
              <a:t>Create questions with multiple choice questions that students answer on smart devices. (They LOVE it!)</a:t>
            </a:r>
            <a:endParaRPr b="0" lang="en-US" sz="24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www.getkahoot.com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Example:</a:t>
            </a:r>
            <a:r>
              <a:rPr b="0" lang="en-US" sz="2800" spc="-1" strike="noStrike" u="sng">
                <a:solidFill>
                  <a:srgbClr val="111111"/>
                </a:solidFill>
                <a:uFillTx/>
                <a:latin typeface="Arial"/>
              </a:rPr>
              <a:t>https://play.kahoot.it/#/k/041443da-6023-4975-a9cf-f756309e14ed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08000" y="189000"/>
            <a:ext cx="655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Tasty tidbits are what spice up your classroom!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08000" y="836640"/>
            <a:ext cx="69120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Games are a great way to reinforce topics from class, particularly those that have to do with vocabulary and grammar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Here’s a list of what we do to spice it up at Dubuque Senior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Crazy Fly Swatter Game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Go Fish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Memory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SzPct val="10295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Cucharas (spoons)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SzPct val="10295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Adivina la palabra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SzPct val="10295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Tic tac toe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SzPct val="10295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Ladders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SzPct val="10295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Chispas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SzPct val="10295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Craneo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SzPct val="10295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Bluff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SzPct val="10295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Tira un seis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SzPct val="10295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Snail Game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SzPct val="10295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Examples of these can be found under the CSCTFL 2016 tab at www.sraprine.wikispaces.com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08000" y="189000"/>
            <a:ext cx="655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More Tasty Tidbits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908000" y="836640"/>
            <a:ext cx="69120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Some awesome and super tasty tidbits from IWLAs past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Verb Squares (Regina Schantz)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Marcas (Lisa Sobotka)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Roommate Game (Regina Schantz)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Piggy Bank (Lisa Sobotka)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Mastermind (Lisa Sobotka)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8000" y="189000"/>
            <a:ext cx="655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Are you on Pinterest?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908000" y="836640"/>
            <a:ext cx="69120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If not, get on it ASAP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There are TONS of amazing ideas to keep things extra spicy in your classroom!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http://www.pinterest.com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08000" y="189000"/>
            <a:ext cx="655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Make your classroom “Pintresting”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08000" y="836640"/>
            <a:ext cx="6912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This is my “low tech” pintrest board in my classroom. (Idea stolen from Jason Noble)</a:t>
            </a:r>
            <a:endParaRPr b="0" lang="en-US" sz="2400" spc="-1" strike="noStrike">
              <a:solidFill>
                <a:srgbClr val="1111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pic>
        <p:nvPicPr>
          <p:cNvPr id="113" name="Picture 1" descr="photo.JPG"/>
          <p:cNvPicPr/>
          <p:nvPr/>
        </p:nvPicPr>
        <p:blipFill>
          <a:blip r:embed="rId3"/>
          <a:stretch/>
        </p:blipFill>
        <p:spPr>
          <a:xfrm>
            <a:off x="2743200" y="2438280"/>
            <a:ext cx="477504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08000" y="189000"/>
            <a:ext cx="655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Make your classroom “Pintresting”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08000" y="836640"/>
            <a:ext cx="6912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Really, you can find some really fun stuff on Pintrest from funny memes to game ideas, to educational theory.</a:t>
            </a:r>
            <a:endParaRPr b="0" lang="en-US" sz="2400" spc="-1" strike="noStrike">
              <a:solidFill>
                <a:srgbClr val="1111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Check me out!</a:t>
            </a:r>
            <a:endParaRPr b="0" lang="en-US" sz="24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https://www.pinterest.com/stephanieprine/school-ideas/ </a:t>
            </a:r>
            <a:endParaRPr b="0" lang="en-US" sz="24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57040" y="404640"/>
            <a:ext cx="669132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Contact Information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59140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66"/>
                </a:solidFill>
                <a:uFillTx/>
                <a:latin typeface="Arial"/>
                <a:hlinkClick r:id="rId1"/>
              </a:rPr>
              <a:t>http://www.senior.dubuque.k12.ia.us/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Stephanie Prine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prine@dbqschools.org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www.sraprine.wikispaces.com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859280" y="404640"/>
            <a:ext cx="38894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2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2514240"/>
            <a:ext cx="8591400" cy="37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800000"/>
                </a:solidFill>
                <a:latin typeface="Arial"/>
              </a:rPr>
              <a:t>Questions?</a:t>
            </a:r>
            <a:endParaRPr b="0" lang="en-US" sz="9600" spc="-1" strike="noStrike">
              <a:solidFill>
                <a:srgbClr val="111111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800000"/>
                </a:solidFill>
                <a:latin typeface="Arial"/>
              </a:rPr>
              <a:t>Things to share?</a:t>
            </a:r>
            <a:endParaRPr b="0" lang="en-US" sz="96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057040" y="404640"/>
            <a:ext cx="669132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Contact Information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59140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http://www.senior.dubuque.k12.ia.us/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Stephanie Prine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prine@dbqschools.org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www.sraprine.wikispaces.com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59280" y="404640"/>
            <a:ext cx="38894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2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240" y="2514240"/>
            <a:ext cx="8591400" cy="37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800000"/>
                </a:solidFill>
                <a:latin typeface="Arial"/>
              </a:rPr>
              <a:t>Tips</a:t>
            </a:r>
            <a:endParaRPr b="0" lang="en-US" sz="96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189000"/>
            <a:ext cx="655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Tips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908000" y="836640"/>
            <a:ext cx="69120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Many of these tips and tricks are really gimmicks that help build your classroom community.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They build rapport between you and your students.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Really, these are just some classroom management strategies.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08000" y="189000"/>
            <a:ext cx="655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Tips and Tricks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905120" y="609120"/>
            <a:ext cx="6912000" cy="548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¡Listos, listos!-- ¡Sí estamos listos! (Noah Geisel)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¡Prrrrrrróximo!– r rolling contest first (Noah Geisel)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Lávate las manos (Noah Geisel)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Olé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¡Qué lástima!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No me digas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08000" y="189000"/>
            <a:ext cx="655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Tips and Tricks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905120" y="609120"/>
            <a:ext cx="6912000" cy="548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Gimme an ooooo…..ahhhhh</a:t>
            </a:r>
            <a:endParaRPr b="0" lang="en-US" sz="2400" spc="-1" strike="noStrike">
              <a:solidFill>
                <a:srgbClr val="111111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Repeating vocab words with funny inflections:</a:t>
            </a:r>
            <a:endParaRPr b="0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Surprise, question, feeling sick, tired, excited, British accent, just stepped in gum, whining, etc..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Russian accent for incorrect grammar</a:t>
            </a:r>
            <a:endParaRPr b="0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ie) You go to house white?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Fake bad words</a:t>
            </a:r>
            <a:endParaRPr b="0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Sacapuntas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acahuate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Bufanda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3" marL="1455840" indent="-207720">
              <a:spcBef>
                <a:spcPts val="499"/>
              </a:spcBef>
              <a:buSzPct val="102792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Pick whatever words are funny to YOU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3" marL="1455840" indent="-207720">
              <a:spcBef>
                <a:spcPts val="499"/>
              </a:spcBef>
              <a:buSzPct val="102792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Kids buy what YOU sel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08000" y="189000"/>
            <a:ext cx="655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Tips and Tricks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908000" y="836640"/>
            <a:ext cx="69120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Aplausos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De golf</a:t>
            </a: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Suaves</a:t>
            </a: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Fuertes</a:t>
            </a: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Lentos</a:t>
            </a: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Con los pies</a:t>
            </a: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En un circulo</a:t>
            </a: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De fuegos artificiales</a:t>
            </a: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8000" y="189000"/>
            <a:ext cx="655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Tips and Tricks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908000" y="836640"/>
            <a:ext cx="69120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Da tu compañero…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21</a:t>
            </a: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Un codo</a:t>
            </a: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Una rodilla</a:t>
            </a: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Un 5 arriba y abajo</a:t>
            </a: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Un puño con una explosión</a:t>
            </a: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Etc…</a:t>
            </a: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859280" y="404640"/>
            <a:ext cx="38894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2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2514240"/>
            <a:ext cx="8591400" cy="37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800000"/>
                </a:solidFill>
                <a:latin typeface="Arial"/>
              </a:rPr>
              <a:t>Tricks</a:t>
            </a:r>
            <a:endParaRPr b="0" lang="en-US" sz="96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8T21:19:33Z</dcterms:created>
  <dc:creator>rockaitisr</dc:creator>
  <dc:description/>
  <dc:language>en-US</dc:language>
  <cp:lastModifiedBy>Prine, Stephanie</cp:lastModifiedBy>
  <cp:lastPrinted>2013-10-09T20:29:33Z</cp:lastPrinted>
  <dcterms:modified xsi:type="dcterms:W3CDTF">2016-03-07T16:03:00Z</dcterms:modified>
  <cp:revision>199</cp:revision>
  <dc:subject/>
  <dc:title>60 Treats for Your Bag of Trick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BCDF0FE39D892947B3E733C6E3BB7278</vt:lpwstr>
  </property>
  <property fmtid="{D5CDD505-2E9C-101B-9397-08002B2CF9AE}" pid="3" name="PublishingExpirationDate">
    <vt:lpwstr/>
  </property>
  <property fmtid="{D5CDD505-2E9C-101B-9397-08002B2CF9AE}" pid="4" name="PublishingStartDate">
    <vt:lpwstr/>
  </property>
</Properties>
</file>